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44736-5D03-483A-9EC8-05E8C928B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776EE-9FFE-478D-BCA9-8DF48DB7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D39C4-B8CC-472F-ABC7-5846FB7A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6D125-9E68-4C42-BC87-70DEF177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6C99-379F-4299-8466-67BAC2AC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8736-1EB0-475C-A677-EBC316D5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B524-AEB9-4695-9CE4-8D249D01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4EC1-E852-40FB-B7C0-A200A058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8713-E9CF-4A80-87F8-88A4B42B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595A-9318-42DA-859D-17404345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4E65-EE62-4A2E-8D25-F830FC02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0F8D2-10F8-4B33-9195-307BD8E4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B2BC-2CA5-46D0-B8F7-442427A6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E6D6-FF3E-4B01-8F87-7ECF8001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C403-FC38-42F7-B87E-E324A4DF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FC27-44D7-463C-87F2-6745A1F0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D5F4-9B3A-463B-903E-C0D9A17E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79791-8D5D-42E6-9DB6-3C336227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62F9E-295B-49AC-8FEF-9357830D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DCCB2-28E4-4431-A280-313D26F5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97078-864E-4B7D-8618-EC905BBC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7A57F-C237-49FA-9740-65918ABF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BA69A-DE5A-45A0-BC46-11712B72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93904-E798-4F7D-B065-F657FE34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78CF-E745-4593-BACA-6DFA60A21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7849-8F2F-4C68-98B9-C09CA4E1B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Poluarea </a:t>
            </a:r>
            <a:r>
              <a:rPr b="1" lang="ro-RO" sz="5400" spc="-1" strike="noStrike">
                <a:solidFill>
                  <a:srgbClr val="000000"/>
                </a:solidFill>
                <a:latin typeface="Garamond"/>
              </a:rPr>
              <a:t>mediului înconjurător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257800" y="4800600"/>
            <a:ext cx="3581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Garamond"/>
              </a:rPr>
              <a:t>Grigorescu Angela-Felicia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Garamond"/>
              </a:rPr>
              <a:t>Şc. cu cls I-VIII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ro-RO" sz="2200" spc="-1" strike="noStrike">
                <a:solidFill>
                  <a:srgbClr val="000000"/>
                </a:solidFill>
                <a:latin typeface="Garamond"/>
              </a:rPr>
              <a:t>N.B. Locusteanu” Leu 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egradarea mediului sau poluarea cuprinde alterarea calit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ăţ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lor mediului 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î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conjur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or, p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â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la starea de incompatibilitate cu desfa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ş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urarea normal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a procesului metabolic din organismele vi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i.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3336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fr-FR" sz="3000" spc="-1" strike="noStrike">
                <a:solidFill>
                  <a:srgbClr val="000000"/>
                </a:solidFill>
                <a:latin typeface="Garamond"/>
              </a:rPr>
              <a:t>Orice material sau substanta introdus</a:t>
            </a:r>
            <a:r>
              <a:rPr b="1" lang="ro-RO" sz="30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fr-FR" sz="3000" spc="-1" strike="noStrike">
                <a:solidFill>
                  <a:srgbClr val="000000"/>
                </a:solidFill>
                <a:latin typeface="Garamond"/>
              </a:rPr>
              <a:t> artificial </a:t>
            </a:r>
            <a:r>
              <a:rPr b="1" lang="ro-RO" sz="3000" spc="-1" strike="noStrike">
                <a:solidFill>
                  <a:srgbClr val="000000"/>
                </a:solidFill>
                <a:latin typeface="Garamond"/>
              </a:rPr>
              <a:t>î</a:t>
            </a:r>
            <a:r>
              <a:rPr b="1" lang="fr-FR" sz="3000" spc="-1" strike="noStrike">
                <a:solidFill>
                  <a:srgbClr val="000000"/>
                </a:solidFill>
                <a:latin typeface="Garamond"/>
              </a:rPr>
              <a:t>n biosfer</a:t>
            </a:r>
            <a:r>
              <a:rPr b="1" lang="ro-RO" sz="30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fr-FR" sz="3000" spc="-1" strike="noStrike">
                <a:solidFill>
                  <a:srgbClr val="000000"/>
                </a:solidFill>
                <a:latin typeface="Garamond"/>
              </a:rPr>
              <a:t>, sau care exist</a:t>
            </a:r>
            <a:r>
              <a:rPr b="1" lang="ro-RO" sz="30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fr-FR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o-RO" sz="3000" spc="-1" strike="noStrike">
                <a:solidFill>
                  <a:srgbClr val="000000"/>
                </a:solidFill>
                <a:latin typeface="Garamond"/>
              </a:rPr>
              <a:t>î</a:t>
            </a:r>
            <a:r>
              <a:rPr b="1" lang="fr-FR" sz="3000" spc="-1" strike="noStrike">
                <a:solidFill>
                  <a:srgbClr val="000000"/>
                </a:solidFill>
                <a:latin typeface="Garamond"/>
              </a:rPr>
              <a:t>n condi</a:t>
            </a:r>
            <a:r>
              <a:rPr b="1" lang="ro-RO" sz="3000" spc="-1" strike="noStrike">
                <a:solidFill>
                  <a:srgbClr val="000000"/>
                </a:solidFill>
                <a:latin typeface="Garamond"/>
              </a:rPr>
              <a:t>ţ</a:t>
            </a:r>
            <a:r>
              <a:rPr b="1" lang="fr-FR" sz="3000" spc="-1" strike="noStrike">
                <a:solidFill>
                  <a:srgbClr val="000000"/>
                </a:solidFill>
                <a:latin typeface="Garamond"/>
              </a:rPr>
              <a:t>ii naturale </a:t>
            </a:r>
            <a:r>
              <a:rPr b="1" lang="ro-RO" sz="3000" spc="-1" strike="noStrike">
                <a:solidFill>
                  <a:srgbClr val="000000"/>
                </a:solidFill>
                <a:latin typeface="Garamond"/>
              </a:rPr>
              <a:t>ş</a:t>
            </a:r>
            <a:r>
              <a:rPr b="1" lang="fr-FR" sz="3000" spc="-1" strike="noStrike">
                <a:solidFill>
                  <a:srgbClr val="000000"/>
                </a:solidFill>
                <a:latin typeface="Garamond"/>
              </a:rPr>
              <a:t>i provoac</a:t>
            </a:r>
            <a:r>
              <a:rPr b="1" lang="ro-RO" sz="30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fr-FR" sz="3000" spc="-1" strike="noStrike">
                <a:solidFill>
                  <a:srgbClr val="000000"/>
                </a:solidFill>
                <a:latin typeface="Garamond"/>
              </a:rPr>
              <a:t> modific</a:t>
            </a:r>
            <a:r>
              <a:rPr b="1" lang="ro-RO" sz="30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fr-FR" sz="3000" spc="-1" strike="noStrike">
                <a:solidFill>
                  <a:srgbClr val="000000"/>
                </a:solidFill>
                <a:latin typeface="Garamond"/>
              </a:rPr>
              <a:t>ri negative ale calit</a:t>
            </a:r>
            <a:r>
              <a:rPr b="1" lang="ro-RO" sz="3000" spc="-1" strike="noStrike">
                <a:solidFill>
                  <a:srgbClr val="000000"/>
                </a:solidFill>
                <a:latin typeface="Garamond"/>
              </a:rPr>
              <a:t>ăţ</a:t>
            </a:r>
            <a:r>
              <a:rPr b="1" lang="fr-FR" sz="3000" spc="-1" strike="noStrike">
                <a:solidFill>
                  <a:srgbClr val="000000"/>
                </a:solidFill>
                <a:latin typeface="Garamond"/>
              </a:rPr>
              <a:t>ii mediului, este un poluant</a:t>
            </a:r>
            <a:r>
              <a:rPr b="1" lang="ro-RO" sz="3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54200" y="2521080"/>
            <a:ext cx="2100240" cy="1436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142040" y="2292480"/>
            <a:ext cx="1270080" cy="1992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2743200" cy="1881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6248520" y="4876920"/>
            <a:ext cx="26668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Factorii poluanţi pot fi 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: </a:t>
            </a:r>
            <a:br>
              <a:rPr sz="2600"/>
            </a:br>
            <a:br>
              <a:rPr sz="2600"/>
            </a:b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substan</a:t>
            </a: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ţ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e radioactive, </a:t>
            </a:r>
            <a:br>
              <a:rPr sz="2600"/>
            </a:b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chimice (DDT, Pb, Cd, Hg), </a:t>
            </a:r>
            <a:br>
              <a:rPr sz="2600"/>
            </a:b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rezidu</a:t>
            </a: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u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ri petroliere industriale</a:t>
            </a: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,</a:t>
            </a:r>
            <a:br>
              <a:rPr sz="2600"/>
            </a:b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rezidu</a:t>
            </a: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u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rile canalelor de scurgere, </a:t>
            </a:r>
            <a:br>
              <a:rPr sz="2600"/>
            </a:b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diverse rezid</a:t>
            </a: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u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uri organice</a:t>
            </a: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 precum 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detergen</a:t>
            </a: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ţ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 sintetici, </a:t>
            </a:r>
            <a:br>
              <a:rPr sz="2600"/>
            </a:b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utilizarea pesticidelor remanente, organoclorate, "smogul", </a:t>
            </a:r>
            <a:br>
              <a:rPr sz="2600"/>
            </a:b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folosirea ira</a:t>
            </a: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ţi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onala a </a:t>
            </a: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î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ngr</a:t>
            </a: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ăşă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mintelor chimice </a:t>
            </a:r>
            <a:br>
              <a:rPr sz="2600"/>
            </a:br>
            <a:r>
              <a:rPr b="1" lang="ro-RO" sz="26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600" spc="-1" strike="noStrike">
                <a:solidFill>
                  <a:srgbClr val="000000"/>
                </a:solidFill>
                <a:latin typeface="Garamond"/>
              </a:rPr>
              <a:t>stropirea plantelor cu ape reziduale, impurificate, provenite de la diverse indrustrii.</a:t>
            </a:r>
            <a:br>
              <a:rPr sz="2600"/>
            </a:b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91320" y="838080"/>
            <a:ext cx="27622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Dintre obiectivele ocrotirii naturii fac parte: </a:t>
            </a:r>
            <a:br>
              <a:rPr sz="2800"/>
            </a:br>
            <a:br>
              <a:rPr sz="2800"/>
            </a:b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utilizarea ra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ţ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ional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conservarea 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ş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i refacerea resurselor naturale,</a:t>
            </a:r>
            <a:br>
              <a:rPr sz="2800"/>
            </a:b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prevenirea polu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rii mediului, </a:t>
            </a:r>
            <a:br>
              <a:rPr sz="2800"/>
            </a:b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conservarea speciilor rare, pe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ş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teri, declarate ca monumente naturale, </a:t>
            </a:r>
            <a:br>
              <a:rPr sz="2800"/>
            </a:b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ocrotirea ecosistemelor naturale, care are 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ş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i un mijloc de 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relaxare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ş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i tonificare a energiei fizice si spirituale a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le 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omului.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PĂMÂNTUL este casa noastră !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Dac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noi nu o vom proteja,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nu va mai fi timp 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ş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i via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ţ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a nu va mai exista. 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Omul 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ş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i societatea uman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fac parte integrant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din biosfera 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ş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i depind str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â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ns de resursele ei.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Protec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ţ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ia biosferei este de o importan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ţă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capital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</a:rPr>
              <a:t>ă</a:t>
            </a:r>
            <a:r>
              <a:rPr b="1" lang="fr-FR" sz="2800" spc="-1" strike="noStrike">
                <a:solidFill>
                  <a:srgbClr val="000000"/>
                </a:solidFill>
                <a:latin typeface="Garamond"/>
              </a:rPr>
              <a:t> pentru umanitate.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95880" y="228600"/>
            <a:ext cx="2514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uni</cp:lastModifiedBy>
  <dcterms:modified xsi:type="dcterms:W3CDTF">2012-04-20T10:34:16Z</dcterms:modified>
  <cp:revision>5</cp:revision>
  <dc:subject/>
  <dc:title>PowerPoint Presentation</dc:title>
</cp:coreProperties>
</file>